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BF1-57DF-439B-B671-5AD6011D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E8B-CAAF-4214-BC86-7802E2F2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0B0-8542-4038-9332-16ED9F56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C23-F057-4E29-9991-6888DFA8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7A2-80FC-4619-B49E-AF16EF23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CDC-72B0-4035-86F8-1998C738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96F-B32A-4A55-B87D-F09CBC78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B2F-DEC1-4485-A064-EC37A302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DF7-A946-4855-8A40-2B65CD26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7C4-FF7A-4815-B318-9CA57BA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F53-8332-44CF-849E-6B427095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D37-8080-4216-894C-D75744E5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B480-E0B7-4168-AB02-C664E8392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000000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at And Mous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Jaret Jent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2438280"/>
            <a:ext cx="2438280" cy="914400"/>
          </a:xfrm>
          <a:prstGeom prst="rightArrow">
            <a:avLst>
              <a:gd name="adj1" fmla="val 50000"/>
              <a:gd name="adj2" fmla="val 666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0"/>
            <a:ext cx="1219320" cy="2590920"/>
          </a:xfrm>
          <a:prstGeom prst="downArrow">
            <a:avLst>
              <a:gd name="adj1" fmla="val 50000"/>
              <a:gd name="adj2" fmla="val 531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3581280"/>
            <a:ext cx="2362320" cy="2590920"/>
          </a:xfrm>
          <a:prstGeom prst="upArrow">
            <a:avLst>
              <a:gd name="adj1" fmla="val 50000"/>
              <a:gd name="adj2" fmla="val 274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5715000" y="4267080"/>
            <a:ext cx="2590920" cy="304920"/>
          </a:xfrm>
          <a:prstGeom prst="leftArrow">
            <a:avLst>
              <a:gd name="adj1" fmla="val 50000"/>
              <a:gd name="adj2" fmla="val 212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105520"/>
            <a:ext cx="2895480" cy="914400"/>
          </a:xfrm>
          <a:prstGeom prst="rightArrow">
            <a:avLst>
              <a:gd name="adj1" fmla="val 50000"/>
              <a:gd name="adj2" fmla="val 791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52280"/>
            <a:ext cx="2666880" cy="167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5410080" y="228600"/>
            <a:ext cx="3581640" cy="1219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5638680" y="2895480"/>
            <a:ext cx="2743200" cy="1219320"/>
          </a:xfrm>
          <a:prstGeom prst="leftArrow">
            <a:avLst>
              <a:gd name="adj1" fmla="val 50000"/>
              <a:gd name="adj2" fmla="val 562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276720"/>
            <a:ext cx="3581280" cy="1828800"/>
          </a:xfrm>
          <a:prstGeom prst="rightArrow">
            <a:avLst>
              <a:gd name="adj1" fmla="val 50000"/>
              <a:gd name="adj2" fmla="val 4895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5867280" y="1828800"/>
            <a:ext cx="2819520" cy="1295280"/>
          </a:xfrm>
          <a:prstGeom prst="leftArrow">
            <a:avLst>
              <a:gd name="adj1" fmla="val 50000"/>
              <a:gd name="adj2" fmla="val 544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6248520" y="4648320"/>
            <a:ext cx="1523880" cy="2209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457200"/>
            <a:ext cx="1523880" cy="2819520"/>
          </a:xfrm>
          <a:prstGeom prst="downArrow">
            <a:avLst>
              <a:gd name="adj1" fmla="val 50000"/>
              <a:gd name="adj2" fmla="val 462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8382E-006 L -3.33333E-006 0.33295 E">
                                      <p:cBhvr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27746E-006 L 2.77556E-017 0.33294 E">
                                      <p:cBhvr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3248 C -0.05938 0.33387 -0.11841 0.31815 -0.16997 0.36023 C -0.19549 0.38127 -0.21372 0.4067 -0.22726 0.44277 C -0.22865 0.44693 -0.23073 0.45086 -0.23195 0.45549 C -0.23403 0.46543 -0.23837 0.48508 -0.23837 0.48508 C -0.24167 0.5163 -0.24167 0.51098 -0.23664 0.56092 C -0.2342 0.58242 -0.21962 0.60624 -0.20816 0.62011 C -0.17118 0.66566 -0.12414 0.67445 -0.07622 0.68138 C -0.04827 0.67768 -0.04844 0.68115 -0.03021 0.66659 C -0.02552 0.65757 -0.01927 0.64971 -0.01598 0.63907 C -0.00591 0.60716 -0.01945 0.63977 -0.00799 0.61387 C -0.00747 0.60832 -0.00747 0.60231 -0.00643 0.59699 C -0.00573 0.59329 -0.00365 0.59029 -0.00313 0.58636 C -0.00122 0.57549 -0.00122 0.5637 3.61111E-006 0.5526 C -0.00105 0.5237 -0.00139 0.49456 -0.00313 0.46566 C -0.00348 0.45988 -0.00573 0.45479 -0.00643 0.44901 C -0.00868 0.4319 -0.00955 0.41503 -0.01424 0.39838 C -0.02118 0.37387 -0.03004 0.35029 -0.0382 0.32647 C -0.054 0.28092 -0.06997 0.23653 -0.09375 0.19745 C -0.09636 0.19306 -0.10122 0.18104 -0.10486 0.17618 C -0.12448 0.15237 -0.14757 0.13618 -0.17309 0.12786 C -0.20452 0.12948 -0.21164 0.12925 -0.23664 0.14034 C -0.24289 0.1489 -0.25035 0.15283 -0.25868 0.15745 C -0.26424 0.16439 -0.27101 0.16925 -0.27622 0.17618 C -0.27986 0.18104 -0.28247 0.18659 -0.28577 0.19098 C -0.28889 0.20138 -0.29271 0.21017 -0.29532 0.22081 C -0.29601 0.22497 -0.29601 0.22913 -0.29688 0.23352 C -0.29775 0.23653 -0.29948 0.23884 -0.3 0.24185 C -0.30157 0.24901 -0.30295 0.27861 -0.3033 0.28208 C -0.30209 0.29942 -0.30157 0.31722 -0.3 0.33503 C -0.29896 0.34797 -0.29532 0.35653 -0.29219 0.36878 C -0.28542 0.39445 -0.2783 0.41688 -0.26841 0.44069 C -0.25313 0.47653 -0.23611 0.51121 -0.22223 0.54844 C -0.22084 0.5519 -0.21789 0.55375 -0.21598 0.55676 C -0.20903 0.5704 -0.21285 0.56763 -0.20816 0.58219 C -0.20139 0.60208 -0.17882 0.63907 -0.16355 0.64971 C -0.14011 0.66636 -0.12118 0.66936 -0.09532 0.67306 C -0.09393 0.6726 -0.04775 0.6682 -0.0349 0.66266 C 0.00364 0.64601 0.02795 0.62612 0.04444 0.57572 C 0.04548 0.5674 0.04652 0.55884 0.04757 0.55052 C 0.04878 0.54057 0.05069 0.52092 0.05069 0.52092 C 0.04843 0.48624 0.04774 0.44578 0.03958 0.41109 C 0.02239 0.33849 -0.01059 0.27167 -0.04931 0.21664 C -0.06823 0.18959 -0.08976 0.16624 -0.11424 0.1489 C -0.13698 0.13248 -0.11233 0.14728 -0.14601 0.12994 C -0.14861 0.12855 -0.154 0.12555 -0.154 0.12555 C -0.15868 0.12693 -0.16355 0.12786 -0.16823 0.12994 C -0.17934 0.13479 -0.18143 0.15352 -0.18577 0.16578 C -0.19462 0.19005 -0.20313 0.21225 -0.20955 0.23745 C -0.21164 0.24531 -0.21233 0.25341 -0.21424 0.26081 C -0.21615 0.26867 -0.21875 0.27653 -0.22066 0.28393 C -0.22466 0.31422 -0.23195 0.34427 -0.23976 0.37294 C -0.2408 0.38705 -0.24184 0.40115 -0.24289 0.41526 C -0.24341 0.4215 -0.24462 0.43399 -0.24462 0.43399 C -0.24254 0.47907 -0.23924 0.53086 -0.21927 0.56948 C -0.20174 0.603 -0.21302 0.58219 -0.18907 0.62219 C -0.18056 0.63607 -0.17587 0.64254 -0.16528 0.65179 C -0.16372 0.64601 -0.16059 0.64092 -0.16059 0.63491 C -0.15973 0.60832 -0.16077 0.55075 -0.18438 0.53572 C -0.19844 0.51699 -0.23108 0.53017 -0.24462 0.53156 C -0.26337 0.54104 -0.28299 0.54797 -0.30157 0.55884 C -0.33056 0.57572 -0.35851 0.5963 -0.38733 0.61387 C -0.40677 0.62566 -0.42518 0.63977 -0.44445 0.65179 C -0.44983 0.65549 -0.45625 0.65549 -0.46198 0.65826 C -0.47552 0.66451 -0.479 0.67052 -0.49202 0.67537 C -0.51962 0.68531 -0.54809 0.6874 -0.57622 0.69017 C -0.61007 0.68832 -0.6092 0.6904 -0.63021 0.68346 C -0.63403 0.68138 -0.63785 0.68023 -0.64132 0.67745 C -0.65764 0.66427 -0.66684 0.63491 -0.67622 0.61387 C -0.68386 0.59653 -0.69098 0.57942 -0.69705 0.56092 C -0.70382 0.53872 -0.69618 0.55792 -0.7033 0.53364 C -0.71146 0.50497 -0.71997 0.47607 -0.72709 0.44693 C -0.73473 0.41688 -0.73855 0.38451 -0.74931 0.35583 C -0.75157 0.3378 -0.75365 0.31907 -0.75556 0.30081 C -0.75469 0.25734 -0.7533 0.21364 -0.75243 0.16971 C -0.75139 0.12531 -0.75417 0.07098 -0.7382 0.02844 C -0.7349 0.00786 -0.73108 -0.01642 -0.72379 -0.03515 C -0.72483 -0.05804 -0.72257 -0.06405 -0.73021 -0.07931 C -0.73334 -0.09156 -0.74236 -0.10289 -0.74757 -0.1133 C -0.74966 -0.11746 -0.75295 -0.12023 -0.75556 -0.1237 C -0.7566 -0.12509 -0.75868 -0.1281 -0.75868 -0.1281 C -0.77205 -0.12463 -0.78473 -0.11908 -0.79688 -0.11122 C -0.80382 -0.10151 -0.81146 -0.09711 -0.81754 -0.08578 C -0.81806 -0.08301 -0.81823 -0.08 -0.8191 -0.07746 C -0.82084 -0.07145 -0.82535 -0.06035 -0.82535 -0.06035 C -0.82431 -0.03029 -0.82275 -0.00116 -0.8191 0.02844 C -0.81059 0.23537 -0.86789 0.45942 -0.81424 0.65179 C -0.81181 0.68046 -0.81546 0.71098 -0.80955 0.73872 C -0.8073 0.74936 -0.80782 0.76046 -0.80157 0.76832 C -0.79723 0.78543 -0.8033 0.76439 -0.79688 0.77896 C -0.79393 0.7852 -0.79236 0.79375 -0.78889 0.8 C -0.78733 0.803 -0.78438 0.80508 -0.78282 0.80832 C -0.78021 0.81294 -0.77865 0.81872 -0.77622 0.82335 C -0.77118 0.83283 -0.7658 0.84162 -0.76042 0.85063 C -0.75677 0.85664 -0.75139 0.85942 -0.74757 0.86543 C -0.74063 0.87653 -0.74879 0.86797 -0.73976 0.87607 C -0.72483 0.90566 -0.69566 0.89826 -0.67153 0.89942 C -0.63386 0.90427 -0.59601 0.90011 -0.55868 0.90982 C -0.53716 0.92185 -0.51476 0.93063 -0.49202 0.93942 C -0.47361 0.94659 -0.45556 0.9556 -0.43646 0.95861 C -0.42309 0.96462 -0.4092 0.96555 -0.39532 0.96901 C -0.3724 0.97456 -0.35209 0.9815 -0.32865 0.98381 C -0.31268 0.98312 -0.29688 0.98289 -0.28091 0.9815 C -0.27327 0.98104 -0.26841 0.97341 -0.26042 0.97133 C -0.25243 0.96601 -0.24358 0.96138 -0.2349 0.95861 C -0.22188 0.94936 -0.21233 0.94474 -0.20313 0.92901 C -0.20052 0.91792 -0.19549 0.91075 -0.19045 0.9015 C -0.1875 0.88763 -0.18611 0.87283 -0.18264 0.85919 C -0.1823 0.85294 -0.18108 0.8467 -0.18108 0.84 C -0.18108 0.80578 -0.1816 0.77109 -0.18264 0.73664 C -0.18316 0.71722 -0.204 0.69225 -0.21424 0.68138 C -0.21927 0.67653 -0.22257 0.67144 -0.22865 0.66867 C -0.24514 0.65271 -0.22431 0.67144 -0.24289 0.66057 C -0.24427 0.65965 -0.2448 0.65734 -0.24601 0.65618 C -0.2474 0.65479 -0.24931 0.65479 -0.25105 0.65387 C -0.26337 0.643 -0.2816 0.64185 -0.29393 0.62867 C -0.31129 0.60925 -0.32535 0.58451 -0.3415 0.56323 C -0.34358 0.56023 -0.34393 0.5556 -0.34618 0.5526 C -0.35209 0.54312 -0.36146 0.53595 -0.36823 0.52716 C -0.379 0.51399 -0.3882 0.49849 -0.39844 0.48508 C -0.40851 0.47167 -0.42049 0.46034 -0.43021 0.44693 C -0.44063 0.43283 -0.45052 0.41688 -0.45868 0.40046 C -0.46216 0.39352 -0.47049 0.38173 -0.47309 0.37294 C -0.47552 0.36462 -0.47726 0.35722 -0.48091 0.34982 C -0.48368 0.32994 -0.48907 0.30381 -0.47778 0.28832 C -0.47205 0.2652 -0.45434 0.23607 -0.44132 0.21872 C -0.43386 0.20832 -0.42344 0.20092 -0.41598 0.19098 C -0.40052 0.17017 -0.37136 0.14081 -0.35087 0.12994 C -0.33976 0.11491 -0.3198 0.10797 -0.30486 0.10011 C -0.30278 0.10011 -0.26216 0.09942 -0.24601 0.10427 C -0.23282 0.1089 -0.22136 0.11792 -0.20816 0.12138 C -0.19844 0.12948 -0.20452 0.12485 -0.18733 0.1341 C -0.1849 0.13549 -0.17934 0.13826 -0.17934 0.13826 C -0.16441 0.1593 -0.13802 0.1519 -0.1191 0.15283 C -0.10868 0.15745 -0.09775 0.15792 -0.08733 0.16162 C -0.07535 0.16578 -0.06563 0.17549 -0.054 0.18057 C -0.04358 0.1852 -0.03282 0.18867 -0.02223 0.19329 C -0.01424 0.20046 -0.00469 0.20925 3.61111E-006 0.22081 C 0.00225 0.22612 0.00416 0.23214 0.00625 0.23745 C 0.00729 0.24046 0.00955 0.24624 0.00955 0.24624 C 0.0118 0.26266 0.01701 0.283 0.00955 0.29896 C 0.00694 0.30427 0.00173 0.3052 -0.00157 0.30959 E">
                                      <p:cBhvr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62844 C -0.06597 -0.62035 -0.11493 -0.60046 -0.11493 -0.58451 C -0.11493 -0.56994 -0.06701 -0.55908 -0.00295 -0.55908 C 0.06094 -0.55908 0.11493 -0.56994 0.11493 -0.58451 C 0.11493 -0.60046 0.05903 -0.60439 -0.00504 -0.59376 C -0.06806 -0.58174 -0.11493 -0.56185 -0.11493 -0.54729 C -0.11493 -0.53249 -0.06597 -0.52046 -0.00295 -0.52046 C 0.06094 -0.52046 0.11493 -0.53249 0.11493 -0.54729 C 0.11493 -0.56185 0.05903 -0.56578 -0.00399 -0.55515 C -0.06806 -0.54451 -0.11493 -0.52463 -0.11493 -0.50983 C -0.11493 -0.49387 -0.06597 -0.48185 -0.00208 -0.48185 C 0.06094 -0.48185 0.11493 -0.49387 0.11493 -0.50983 C 0.11493 -0.52324 0.05903 -0.52717 -0.00399 -0.51792 C -0.06701 -0.50729 -0.11493 -0.48601 -0.11493 -0.47122 C -0.11493 -0.45665 -0.06493 -0.44463 -0.00208 -0.44463 C 0.06302 -0.44463 0.11493 -0.45665 0.11493 -0.47122 C 0.11493 -0.48601 0.06007 -0.48994 -0.00295 -0.47931 C -0.06597 -0.46867 -0.11493 -0.44856 -0.11493 -0.43399 C -0.11493 -0.41804 -0.06493 -0.4074 -0.00104 -0.4074 C 0.06302 -0.4074 0.11493 -0.41942 0.11493 -0.43399 C 0.11493 -0.44856 0.06007 -0.45272 -0.00295 -0.44208 C -0.06597 -0.43122 -0.11493 -0.40994 -0.11493 -0.39676 C -0.11493 -0.38197 -0.06406 -0.37018 -0.00104 -0.37018 C 0.06302 -0.37018 0.11493 -0.38197 0.11493 -0.39676 C 0.11493 -0.40994 0.06094 -0.41411 -0.00295 -0.40463 C -0.06597 -0.39399 -0.11493 -0.37272 -0.11493 -0.35815 C -0.11493 -0.34474 -0.06406 -0.33156 1.11111E-006 -0.33156 C 0.06406 -0.33156 0.11493 -0.34335 0.11493 -0.35815 C 0.11493 -0.37272 0.06094 -0.37665 -0.00208 -0.36601 C -0.06493 -0.35538 -0.11597 -0.33549 -0.11493 -0.3207 C -0.11406 -0.30613 -0.06406 -0.29549 1.11111E-006 -0.29549 C 0.06406 -0.29549 0.11493 -0.30752 0.11493 -0.32208 C 0.11493 -0.33549 0.06302 -0.33942 1.11111E-006 -0.3274 E">
                                      <p:cBhvr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309 -0.24416 C 0.38107 -0.23352 0.3901 -0.22289 0.39409 -0.20948 C 0.39809 -0.19491 0.40017 -0.17757 0.40208 -0.16023 C 0.40416 -0.14289 0.40208 -0.12832 0.40017 -0.11237 C 0.39809 -0.09757 0.39514 -0.08161 0.38802 -0.06843 C 0.38211 -0.05502 0.37205 -0.04439 0.36111 -0.0363 C 0.35104 -0.02843 0.33906 -0.02312 0.32708 -0.02034 C 0.3151 -0.0178 0.30312 -0.0178 0.29201 -0.02034 C 0.28003 -0.02312 0.26909 -0.02982 0.26007 -0.04046 C 0.25104 -0.04971 0.24305 -0.06173 0.23906 -0.0763 C 0.23402 -0.08971 0.23211 -0.1082 0.23211 -0.123 C 0.23107 -0.13757 0.23211 -0.15491 0.23715 -0.16948 C 0.24201 -0.18289 0.25104 -0.19352 0.26302 -0.19884 C 0.27517 -0.20277 0.28715 -0.19745 0.29514 -0.1882 C 0.30208 -0.17895 0.30711 -0.16416 0.30816 -0.14705 C 0.30816 -0.12971 0.30711 -0.11375 0.30208 -0.10034 C 0.29705 -0.08693 0.29809 -0.08439 0.27812 -0.06705 C 0.26007 -0.04832 0.24201 -0.05364 0.23107 -0.05248 C 0.22014 -0.05248 0.21111 -0.0578 0.20017 -0.06312 C 0.18802 -0.06959 0.17812 -0.08161 0.171 -0.09225 C 0.16406 -0.10289 0.16111 -0.1163 0.15711 -0.13757 C 0.15416 -0.15884 0.15416 -0.16948 0.15416 -0.18566 C 0.15416 -0.20161 0.15416 -0.21757 0.15416 -0.23352 E">
                                      <p:cBhvr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6.06936E-006 C 0.25642 0.00348 0.2625 0.00787 0.2691 0.01064 C 0.27674 0.01735 0.28403 0.02267 0.29288 0.02544 C 0.3007 0.03608 0.3125 0.04163 0.32274 0.04671 C 0.32847 0.05411 0.33264 0.05874 0.34028 0.06151 C 0.34636 0.06937 0.35347 0.0733 0.35955 0.08047 C 0.36267 0.0844 0.36667 0.0881 0.3691 0.09319 C 0.37014 0.09527 0.37083 0.09758 0.37222 0.09943 C 0.37361 0.10128 0.37535 0.10197 0.37691 0.10359 C 0.38542 0.11261 0.37483 0.1029 0.38333 0.11423 C 0.38767 0.12001 0.39323 0.12533 0.39757 0.13111 C 0.40399 0.13966 0.40851 0.1503 0.41511 0.15862 C 0.42344 0.18128 0.44115 0.20371 0.45295 0.22429 C 0.45695 0.23955 0.47309 0.25527 0.48021 0.26868 C 0.48455 0.27723 0.48681 0.28741 0.49132 0.29596 C 0.48802 0.31608 0.47483 0.32879 0.46267 0.34035 C 0.45469 0.34775 0.46441 0.34174 0.45625 0.34891 C 0.45434 0.35053 0.45191 0.35145 0.45 0.35307 C 0.4467 0.35561 0.4434 0.35885 0.44045 0.36163 C 0.43177 0.36926 0.41024 0.3718 0.4007 0.37434 C 0.36163 0.37319 0.34115 0.37897 0.31007 0.36579 C 0.29879 0.35561 0.31389 0.36787 0.29757 0.35955 C 0.29583 0.35862 0.29462 0.35608 0.29288 0.35515 C 0.29028 0.35377 0.2875 0.35377 0.2849 0.35307 C 0.2717 0.34128 0.28837 0.35538 0.27535 0.34683 C 0.27014 0.34336 0.26823 0.33874 0.26267 0.33619 C 0.2592 0.32926 0.2533 0.3244 0.25 0.31723 C 0.23941 0.29388 0.24392 0.3029 0.23733 0.28972 C 0.23507 0.27168 0.2342 0.27076 0.23733 0.24741 C 0.23872 0.23631 0.24879 0.23168 0.25469 0.22637 C 0.26059 0.22105 0.25521 0.22197 0.26267 0.21781 C 0.26615 0.21573 0.27031 0.21573 0.27379 0.21365 C 0.28368 0.2081 0.29167 0.20371 0.30243 0.20093 C 0.31927 0.19192 0.33559 0.18567 0.35313 0.17989 C 0.36094 0.17457 0.3684 0.17457 0.37691 0.17134 C 0.39149 0.16556 0.4066 0.1614 0.42136 0.15654 C 0.42882 0.15007 0.42448 0.1533 0.43559 0.14798 C 0.43906 0.14637 0.44149 0.14128 0.44514 0.13966 C 0.4467 0.13897 0.44844 0.13827 0.45 0.13758 C 0.45295 0.13481 0.45642 0.1318 0.45938 0.12903 C 0.46094 0.12764 0.46424 0.12486 0.46424 0.12486 C 0.47136 0.11007 0.46233 0.12718 0.47379 0.11215 C 0.48386 0.09874 0.49045 0.07908 0.49913 0.06359 C 0.50104 0.05573 0.50434 0.04972 0.50712 0.04232 C 0.5099 0.03469 0.51059 0.02683 0.51354 0.0192 C 0.51285 0.00093 0.51372 -0.0178 0.51181 -0.03583 C 0.5099 -0.05086 0.49601 -0.05571 0.48802 -0.06126 C 0.47847 -0.06034 0.46181 -0.06149 0.45139 -0.05479 C 0.43646 -0.04508 0.44948 -0.05109 0.43889 -0.04647 C 0.43247 -0.03999 0.42656 -0.03768 0.41962 -0.03167 C 0.41754 -0.02982 0.41563 -0.02751 0.41354 -0.02519 C 0.41215 -0.02381 0.41129 -0.02219 0.41024 -0.02103 C 0.40695 -0.01803 0.40295 -0.01664 0.4007 -0.01248 C 0.39497 -0.00207 0.39809 -0.006 0.39115 6.06936E-006 C 0.38316 0.01619 0.38681 0.00833 0.38021 0.02336 C 0.37743 0.03723 0.37396 0.04394 0.37066 0.05712 C 0.3632 0.08764 0.36163 0.1207 0.35955 0.15238 C 0.36042 0.18128 0.35868 0.21434 0.3691 0.24116 C 0.37014 0.25041 0.37136 0.25943 0.37222 0.26868 C 0.37274 0.277 0.37309 0.28556 0.37361 0.29388 C 0.37483 0.30521 0.37847 0.31654 0.38021 0.32787 C 0.38247 0.34359 0.38524 0.35885 0.38802 0.37434 C 0.38733 0.38637 0.38924 0.39978 0.3849 0.41018 C 0.38281 0.41457 0.37847 0.4229 0.37847 0.4229 C 0.37361 0.44209 0.3559 0.45319 0.3434 0.46313 C 0.33767 0.4733 0.32934 0.47931 0.32136 0.48625 C 0.30486 0.48463 0.29219 0.48186 0.27674 0.47585 C 0.2684 0.47261 0.26163 0.4659 0.25313 0.46313 C 0.24653 0.45851 0.23958 0.45342 0.23247 0.45041 C 0.22726 0.44325 0.22691 0.43839 0.22465 0.42914 C 0.225 0.41388 0.2224 0.38405 0.23247 0.36995 C 0.2375 0.34983 0.22986 0.37619 0.23733 0.35955 C 0.2408 0.35168 0.2408 0.34128 0.24514 0.33411 C 0.2474 0.33018 0.25052 0.32694 0.25313 0.32348 C 0.25486 0.32116 0.25729 0.32047 0.25955 0.31931 C 0.26267 0.3177 0.2691 0.31515 0.2691 0.31515 C 0.27674 0.30798 0.28681 0.30637 0.29601 0.30244 C 0.30226 0.29966 0.30625 0.29411 0.31354 0.2918 C 0.32136 0.28394 0.3283 0.28186 0.33733 0.277 C 0.3684 0.26035 0.34896 0.26729 0.37361 0.26012 C 0.39063 0.24903 0.37986 0.25504 0.40695 0.24533 C 0.42049 0.24047 0.4316 0.23238 0.44514 0.22845 C 0.46024 0.21804 0.47726 0.21018 0.49288 0.20093 C 0.51962 0.18498 0.54427 0.16718 0.57379 0.1607 C 0.59219 0.15099 0.58386 0.15377 0.59757 0.1503 C 0.60399 0.1459 0.60972 0.14059 0.61667 0.13758 C 0.62153 0.13272 0.62656 0.12949 0.63247 0.12694 C 0.63351 0.12556 0.63455 0.12394 0.63559 0.12278 C 0.63767 0.12093 0.64028 0.12047 0.64201 0.11839 C 0.65087 0.10845 0.6566 0.09735 0.66424 0.08671 C 0.66476 0.08463 0.66511 0.08232 0.6658 0.08047 C 0.66667 0.07816 0.66806 0.07631 0.66892 0.074 C 0.67066 0.06937 0.67101 0.06405 0.67222 0.0592 C 0.67136 0.04209 0.67188 0.02475 0.66736 0.00856 C 0.66406 -0.02288 0.65695 -0.05178 0.6434 -0.07814 C 0.63594 -0.10843 0.60399 -0.12785 0.58177 -0.12878 C 0.54948 -0.12993 0.51701 -0.13017 0.48472 -0.13086 C 0.425 -0.13571 0.36528 -0.14866 0.30556 -0.15213 C 0.20295 -0.15814 0.28229 -0.15398 0.06736 -0.15629 C 0.03837 -0.16138 0.01198 -0.16647 -0.01667 -0.16901 C -0.03437 -0.17363 -0.05104 -0.17941 -0.0691 -0.18173 C -0.08316 -0.18797 -0.10694 -0.19444 -0.12153 -0.19444 L 0.31007 0.14382 L 0.50868 -0.28531 L 0.10556 -0.27884 L 0.13403 0.31931 L 0.62622 0.21781 L 1.00243 -0.31907 L 0.93247 -0.22196 L 0.57535 0.6807 L 0.73247 -0.17109 L 0.22136 -0.00832 L 0.19757 -0.30427 L 0.06424 -0.14566 L 0.22292 0.30452 L 0.23733 0.48833 L 0.05 0.40602 L 0.08646 0.12278 L -0.13889 0.00648 L 0.03247 0.33411 E">
                                      <p:cBhvr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33294 C 0.00243 0.32254 0.01111 0.31652 0.01718 0.30982 C 0.04895 0.27491 0.08229 0.24832 0.11875 0.22103 C 0.17239 0.1808 0.16979 0.18589 0.24253 0.14265 C 0.34114 0.08462 0.45017 0.03722 0.55868 0.03074 C 0.58593 0.03259 0.6177 0.01757 0.63489 0.0497 C 0.65954 0.15028 0.58802 0.28439 0.55382 0.36046 C 0.53541 0.40115 0.52604 0.42936 0.50312 0.46404 C 0.45086 0.54219 0.38263 0.60069 0.30625 0.62681 C 0.27882 0.63583 0.23559 0.63999 0.20763 0.64369 C 0.04982 0.63121 -0.13924 0.59976 -0.23664 0.41132 C -0.24879 0.35213 -0.25261 0.35514 -0.23976 0.28022 C -0.23507 0.25271 -0.20851 0.20392 -0.19688 0.18496 C -0.14132 0.09479 -0.07066 0.02797 0.00625 -0.02637 C 0.02638 -0.0407 0.04791 -0.0518 0.06805 -0.0666 C 0.08819 -0.08139 0.10677 -0.10035 0.12673 -0.11515 C 0.1901 -0.16186 0.17604 -0.14544 0.23941 -0.1785 C 0.27204 -0.19538 0.29392 -0.20856 0.32847 -0.21226 C 0.33246 -0.21087 0.33888 -0.21319 0.34114 -0.2081 C 0.34288 -0.20417 0.3368 -0.20116 0.33472 -0.19746 C 0.33142 -0.19053 0.32934 -0.18243 0.32534 -0.17642 C 0.31128 -0.15631 0.29548 -0.13827 0.28073 -0.11931 C 0.25902 -0.09134 0.23333 -0.0696 0.2092 -0.04532 C 0.05121 0.11514 0.28298 -0.12463 0.10295 0.0645 C -0.02188 0.19583 -0.15747 0.30913 -0.27952 0.44508 C -0.30487 0.47306 -0.32778 0.50566 -0.35556 0.5297 C -0.37605 0.54751 -0.39566 0.56161 -0.41112 0.58658 C -0.41476 0.59976 -0.41476 0.59468 -0.39688 0.58658 C -0.38785 0.58265 -0.37882 0.57895 -0.36997 0.57387 C -0.35174 0.56392 -0.33438 0.55144 -0.31598 0.54219 C -0.26459 0.51745 -0.2125 0.49548 -0.16059 0.47259 C 0.03402 0.38728 0.22534 0.29225 0.42204 0.21456 C 0.45746 0.20046 0.51684 0.1778 0.55538 0.16577 C 0.56632 0.16231 0.57777 0.16046 0.58871 0.15768 C 0.59409 0.15629 0.59965 0.14982 0.60451 0.15329 C 0.60868 0.15606 0.59583 0.15652 0.59184 0.15976 C 0.57187 0.17502 0.55277 0.1919 0.53316 0.20832 C 0.47482 0.25664 0.41198 0.29479 0.35208 0.33942 C 0.20642 0.44785 0.06024 0.55283 -0.08125 0.67121 C -0.1158 0.70011 -0.14948 0.72832 -0.18108 0.76207 C -0.19393 0.77572 -0.15382 0.7378 -0.13993 0.72624 C -0.12292 0.71236 -0.10608 0.69942 -0.08907 0.686 C -0.03542 0.64369 0.02309 0.61363 0.07934 0.57803 C 0.17465 0.51814 0.27152 0.46196 0.36805 0.40485 C 0.46701 0.34635 0.56423 0.28531 0.66649 0.23791 C 0.66927 0.23676 0.66111 0.24069 0.6585 0.24207 C 0.64861 0.24716 0.64201 0.25965 0.63333 0.26751 C 0.61909 0.27999 0.60503 0.29225 0.59027 0.30335 C 0.53732 0.34242 0.48402 0.3808 0.43003 0.41757 C 0.29375 0.50982 0.15277 0.59051 0.01406 0.6756 C -0.06059 0.72138 -0.06893 0.72716 -0.13351 0.78335 C -0.14636 0.79468 -0.15938 0.80647 -0.17153 0.81918 C -0.17639 0.82381 -0.18039 0.83028 -0.18421 0.83606 C -0.18612 0.83861 -0.19167 0.84531 -0.18907 0.84462 C -0.16528 0.83837 -0.14497 0.81548 -0.12414 0.80231 C -0.08473 0.77757 -0.04584 0.75283 -0.0066 0.72832 C 0.12604 0.64577 0.25468 0.57664 0.39184 0.51028 C 0.44323 0.48554 0.4927 0.45618 0.54739 0.44693 C 0.5302 0.483 0.50468 0.51167 0.48073 0.54011 C 0.42691 0.60369 0.37482 0.65179 0.31406 0.7052 C 0.28836 0.72785 0.25781 0.75306 0.23159 0.77479 C 0.22187 0.78265 0.21215 0.78959 0.20295 0.79814 C 0.19757 0.803 0.19236 0.80785 0.18698 0.81294 C 0.1842 0.81548 0.1776 0.8252 0.17916 0.82126 C 0.18958 0.79421 0.24652 0.7371 0.26007 0.72415 C 0.30538 0.68092 0.35156 0.63976 0.39826 0.5993 C 0.42621 0.57502 0.45503 0.55213 0.48402 0.5297 C 0.53645 0.48878 0.59739 0.446 0.65208 0.40924 C 0.69114 0.38288 0.73576 0.34681 0.78073 0.34126 C 0.67968 0.50889 0.44635 0.62728 0.31718 0.7052 C 0.14201 0.81063 -0.04028 0.89872 -0.2191 0.99259 C -0.27205 1.02011 -0.32448 1.06335 -0.37778 1.08994 C -0.3257 1.00046 -0.26025 0.93595 -0.19375 0.86797 C -0.07657 0.74843 0.03593 0.63329 0.1585 0.52531 C 0.22691 0.46496 0.30017 0.41479 0.37118 0.36046 C 0.38645 0.34889 0.40208 0.33803 0.41736 0.3267 C 0.42257 0.32254 0.42777 0.31814 0.43333 0.31398 C 0.43611 0.31167 0.44409 0.30797 0.44097 0.30566 C 0.43663 0.30219 0.43055 0.30705 0.42517 0.30774 C 0.3875 0.31837 0.41753 0.31098 0.36961 0.31814 C 0.34288 0.32184 0.28888 0.33086 0.28888 0.33086 C 0.26336 0.32947 0.23784 0.32832 0.2125 0.3267 C 0.21024 0.32647 0.20763 0.32693 0.20625 0.32462 C 0.20434 0.32184 0.2052 0.31745 0.20451 0.31398 C 0.25138 0.21132 0.32882 0.13687 0.40451 0.07514 C 0.46284 0.02728 0.52048 -0.02313 0.58229 -0.06243 C 0.64097 -0.09966 0.69982 -0.13689 0.75868 -0.17434 C 0.7875 -0.19284 0.81979 -0.20741 0.84253 -0.23769 C 0.84479 -0.24047 0.85191 -0.24602 0.84913 -0.24625 C 0.81388 -0.24926 0.72482 -0.21018 0.69809 -0.19978 C 0.58541 -0.15631 0.43385 -0.08463 0.33628 0.01387 C 0.32552 0.02473 0.30138 0.06103 0.29027 0.07722 C 0.2842 0.09733 0.27066 0.14103 0.29496 0.14913 C 0.30694 0.15837 0.31996 0.15907 0.33316 0.16184 C 0.35086 0.16554 0.36423 0.16947 0.3809 0.17664 C 0.38524 0.18034 0.38819 0.18427 0.39184 0.18936 C 0.40243 0.23144 0.35746 0.24624 0.33472 0.25063 C 0.32691 0.25225 0.31892 0.25433 0.31111 0.25479 C 0.28298 0.25641 0.25503 0.25618 0.22673 0.25687 C 0.1934 0.25433 0.15746 0.24855 0.12361 0.24855 C 0.11666 0.24855 0.13732 0.24994 0.14444 0.25063 C 0.1776 0.2615 0.21111 0.27028 0.24427 0.28231 C 0.25885 0.28762 0.27152 0.2971 0.28559 0.30335 C 0.28802 0.31398 0.28559 0.31421 0.28073 0.32254 C 0.26718 0.34681 0.246 0.36069 0.22517 0.37317 C 0.21736 0.3778 0.20954 0.38219 0.20138 0.38589 C 0.15694 0.4067 0.11284 0.4282 0.06805 0.44924 C 0.02638 0.46843 -0.01146 0.48554 -0.03195 0.54011 C -0.03386 0.55468 -0.03525 0.56947 -0.02865 0.58242 C -0.02396 0.58173 -0.0191 0.58173 -0.01441 0.58034 C -0.00608 0.57803 0.00052 0.57179 0.0092 0.56947 C 0.02725 0.5593 0.05173 0.55028 0.07135 0.5445 C 0.08281 0.52878 0.10486 0.53202 0.05555 0.53595 C 0.01493 0.55629 -0.03004 0.57687 -0.06511 0.61202 C -0.06563 0.6141 -0.06598 0.61664 -0.06684 0.61849 C -0.06754 0.61988 -0.07032 0.6208 -0.06997 0.62265 C -0.06945 0.6252 -0.06702 0.62566 -0.06511 0.62681 C -0.06216 0.62843 -0.05886 0.62982 -0.05556 0.63121 C -0.03629 0.63028 -0.00487 0.63444 0.01718 0.6245 C 0.02066 0.59352 0.02604 0.56254 0.02986 0.53179 C 0.02934 0.49294 0.03055 0.45387 0.02829 0.41548 C 0.02829 0.41132 0.02239 0.41248 0.02048 0.40924 C 0.01475 0.39907 0.01493 0.39375 0.00625 0.39005 C -0.00573 0.39306 0.00156 0.39074 -0.01129 0.39652 C -0.01285 0.39722 -0.01615 0.39861 -0.01615 0.39861 C -0.02778 0.40924 -0.01059 0.39444 -0.03351 0.40924 C -0.0415 0.41456 -0.04879 0.41918 -0.0573 0.42381 C -0.06459 0.43814 -0.06112 0.43259 -0.06684 0.44092 C -0.06893 0.44878 -0.07171 0.45548 -0.07327 0.46404 C -0.07257 0.47583 -0.07362 0.48878 -0.06997 0.50011 C -0.05782 0.53918 -0.03351 0.56508 -0.00816 0.58889 C 0.00382 0.59976 0.02013 0.60485 0.03316 0.61202 C 0.04652 0.61918 0.05833 0.62797 0.07274 0.63121 C 0.08368 0.63375 0.10191 0.63583 0.11406 0.63722 C 0.13246 0.63514 0.14305 0.63583 0.1585 0.62866 C 0.19323 0.6134 0.21736 0.57595 0.24253 0.54219 C 0.25885 0.52046 0.25191 0.52323 0.26163 0.50219 C 0.26441 0.49595 0.26875 0.49155 0.27118 0.48531 C 0.27448 0.47699 0.27916 0.45965 0.27916 0.45965 C 0.28263 0.42635 0.2743 0.38728 0.24757 0.37733 C 0.24218 0.37294 0.23732 0.36947 0.23159 0.36693 C 0.22291 0.3593 0.2177 0.35537 0.20763 0.35213 C 0.19184 0.34103 0.17413 0.34635 0.15694 0.34774 C 0.12204 0.36693 0.10052 0.38936 0.07604 0.42797 C 0.06857 0.43953 0.06701 0.45849 0.06319 0.47259 C 0.06423 0.483 0.06336 0.49433 0.06649 0.50427 C 0.07465 0.52994 0.10625 0.5334 0.12204 0.5378 C 0.16892 0.55144 0.21545 0.55722 0.26336 0.56138 C 0.30312 0.55884 0.38767 0.55629 0.43941 0.54635 C 0.46475 0.54196 0.48993 0.53363 0.51406 0.52323 C 0.5184 0.52138 0.52274 0.51976 0.52691 0.51699 C 0.53142 0.51398 0.53958 0.50612 0.53958 0.50612 C 0.52552 0.4971 0.50868 0.49733 0.4934 0.49572 C 0.30034 0.4971 0.10711 0.49849 -0.08594 0.50219 C -0.13612 0.48716 -0.11025 0.49687 0.0125 0.49155 C 0.28611 0.47999 0.14253 0.48508 0.44253 0.47676 C 0.55156 0.47722 0.66059 0.47652 0.76961 0.47861 C 0.77882 0.47884 0.75156 0.48231 0.74253 0.483 C 0.71198 0.486 0.68125 0.48693 0.65069 0.48947 C 0.50034 0.48809 0.325 0.50011 0.16475 0.48092 C 0.19253 0.46681 0.21788 0.46358 0.24757 0.4578 C 0.321 0.44323 0.39392 0.43375 0.46823 0.42797 C 0.48454 0.42936 0.50191 0.42496 0.51718 0.43236 C 0.52448 0.43583 0.50243 0.43884 0.49496 0.44092 C 0.48507 0.44369 0.47482 0.44531 0.46493 0.44693 C 0.40763 0.4571 0.35104 0.45988 0.2934 0.46196 C 0.2559 0.46057 0.21805 0.46265 0.1809 0.4578 C 0.16979 0.45641 0.20295 0.45363 0.21406 0.45109 C 0.26718 0.43976 0.31979 0.42496 0.37274 0.41548 C 0.38923 0.41248 0.4059 0.41179 0.42204 0.40924 C 0.43229 0.40762 0.45225 0.40277 0.45225 0.40277 C 0.44479 0.40115 0.43125 0.39722 0.42517 0.40277 C 0.42257 0.40485 0.4302 0.40809 0.43333 0.40924 C 0.44375 0.41363 0.45416 0.41641 0.46493 0.41965 C 0.49548 0.42866 0.52586 0.43514 0.55694 0.43884 C 0.56371 0.42936 0.56198 0.43398 0.54444 0.42797 C 0.49375 0.41063 0.54132 0.4282 0.47916 0.41132 C 0.42899 0.39745 0.37934 0.38242 0.32847 0.37525 C 0.32638 0.37456 0.32326 0.37572 0.32222 0.37317 C 0.32152 0.37132 0.32534 0.37179 0.32691 0.37086 C 0.32882 0.37017 0.33316 0.36901 0.33316 0.36901 E">
                                      <p:cBhvr>
                                        <p:cTn id="70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47 0.49619 C 0.48559 0.50798 0.50157 0.5237 0.51111 0.52786 C 0.51389 0.53919 0.51181 0.53249 0.5191 0.54705 C 0.52483 0.55838 0.52778 0.5711 0.53646 0.57873 C 0.55157 0.63931 0.58282 0.75399 0.53021 0.77734 C 0.52448 0.78243 0.5191 0.78312 0.51268 0.7859 C 0.44167 0.78405 0.45278 0.79237 0.41754 0.77942 C 0.41042 0.77341 0.40278 0.76971 0.39532 0.76462 C 0.38542 0.75792 0.37691 0.74821 0.36667 0.7415 C 0.36216 0.73549 0.35695 0.73064 0.35243 0.72462 C 0.34393 0.7133 0.33768 0.69896 0.33021 0.68647 C 0.32795 0.67445 0.325 0.66659 0.32066 0.6548 C 0.31927 0.65087 0.31771 0.63306 0.31754 0.63145 C 0.31806 0.61942 0.31789 0.6074 0.3191 0.59561 C 0.3217 0.57064 0.34184 0.55052 0.354 0.53434 C 0.36129 0.52462 0.36684 0.51306 0.37309 0.50266 C 0.37934 0.49225 0.38698 0.48301 0.39358 0.47306 C 0.40608 0.45387 0.4165 0.42705 0.43334 0.41387 C 0.43855 0.40532 0.44462 0.39353 0.45087 0.38636 C 0.45261 0.38428 0.45521 0.38405 0.45712 0.3822 C 0.45903 0.38035 0.46025 0.3778 0.46198 0.37572 C 0.46424 0.37318 0.47691 0.35954 0.47934 0.35884 C 0.48664 0.35653 0.49445 0.35399 0.50157 0.35029 C 0.50886 0.34659 0.51233 0.34197 0.5191 0.33549 C 0.52275 0.33202 0.52865 0.32301 0.52865 0.32301 C 0.53976 0.29249 0.53021 0.24671 0.5158 0.21942 C 0.5125 0.19676 0.49063 0.16116 0.47934 0.14312 C 0.46858 0.12601 0.46111 0.11676 0.44914 0.10104 C 0.44202 0.09179 0.4323 0.08763 0.42379 0.08185 C 0.41615 0.07676 0.40903 0.07052 0.40157 0.06497 C 0.39723 0.06173 0.39202 0.06104 0.38733 0.05873 C 0.35261 0.04208 0.31945 0.03052 0.28247 0.02705 C 0.27032 0.02775 0.25816 0.02798 0.24601 0.02913 C 0.23837 0.02983 0.23264 0.03884 0.22691 0.04393 C 0.21736 0.05249 0.20834 0.06081 0.19844 0.06913 C 0.16372 0.09827 0.12118 0.14382 0.09688 0.18751 C 0.08802 0.20347 0.08351 0.21272 0.07622 0.22775 C 0.06858 0.24324 0.06459 0.26243 0.05712 0.27861 C 0.0533 0.30382 0.05834 0.2726 0.05243 0.30173 C 0.05122 0.30798 0.04914 0.32069 0.04914 0.32069 C 0.04966 0.33896 0.04879 0.35746 0.05087 0.37572 C 0.05157 0.38197 0.05504 0.38705 0.05712 0.3926 C 0.06372 0.41064 0.07014 0.42335 0.07934 0.43908 C 0.09393 0.46382 0.07587 0.43445 0.09688 0.46035 C 0.09931 0.46335 0.10035 0.46821 0.10313 0.47098 C 0.11025 0.47815 0.11945 0.48116 0.12691 0.48786 C 0.14896 0.50798 0.17188 0.52416 0.19532 0.54058 C 0.20174 0.5452 0.20764 0.55098 0.21424 0.55538 C 0.2217 0.56023 0.229 0.56532 0.23646 0.57017 C 0.2599 0.5859 0.2783 0.60763 0.30469 0.61457 C 0.31528 0.61341 0.32292 0.61711 0.33021 0.60832 C 0.33473 0.60301 0.34289 0.59145 0.34289 0.59145 C 0.34705 0.56301 0.35799 0.53688 0.36355 0.5089 C 0.36927 0.48 0.37188 0.4511 0.37778 0.4222 C 0.37934 0.38451 0.3842 0.34798 0.38577 0.31029 C 0.38056 0.1822 0.38611 0.27121 0.37778 0.18543 C 0.37657 0.17272 0.37709 0.15977 0.37466 0.14751 C 0.35018 0.02382 0.28455 -0.1267 0.17934 -0.14636 C 0.16823 -0.14566 0.15695 -0.14659 0.14601 -0.14428 C 0.13525 -0.1422 0.1217 -0.11884 0.1158 -0.10844 C 0.1099 -0.09803 0.1033 -0.08786 0.09844 -0.07653 C 0.09636 -0.07168 0.09445 -0.06636 0.09202 -0.06173 C 0.07309 -0.0252 0.05105 0.01041 0.04289 0.05434 C 0.04341 0.06567 0.04323 0.07699 0.04445 0.08832 C 0.0448 0.09133 0.04757 0.09364 0.04757 0.09665 C 0.04757 0.09919 0.04549 0.10104 0.04445 0.10312 C 0.04289 0.11168 0.04132 0.11607 0.03646 0.12208 C 0.03368 0.13757 0.02535 0.1496 0.02223 0.16647 C 0.02118 0.17202 0.02014 0.1778 0.0191 0.18335 C 0.01875 0.18567 0.01893 0.18844 0.01754 0.18983 C 0.01216 0.19561 0.00382 0.19306 -0.00312 0.19399 C -0.01302 0.23191 -0.00868 0.21064 -0.00468 0.2911 C -0.00399 0.30613 0.00191 0.32116 0.01111 0.32925 C 0.01216 0.33133 0.0125 0.33434 0.01424 0.33549 C 0.02066 0.33988 0.02813 0.34058 0.0349 0.34405 C 0.04393 0.34335 0.05313 0.34428 0.06198 0.34197 C 0.07865 0.33757 0.09931 0.31191 0.11111 0.29757 C 0.14636 0.25457 0.18195 0.20555 0.2 0.14543 C 0.20052 0.14127 0.20174 0.13711 0.20157 0.13272 C 0.20122 0.12486 0.20052 0.11676 0.19844 0.10936 C 0.1948 0.09572 0.17657 0.0941 0.16823 0.09249 C 0.11667 0.09387 0.06754 0.0948 0.01754 0.11145 C 0.01355 0.11283 -0.01875 0.12532 -0.02378 0.12832 C -0.03368 0.13457 -0.04305 0.1422 -0.05243 0.1496 C -0.05677 0.15283 -0.0651 0.16023 -0.0651 0.16023 C -0.06979 0.16856 -0.07274 0.17341 -0.07465 0.18335 C -0.06163 0.21734 -0.02395 0.23561 -3.33333E-006 0.24462 C 0.06459 0.26913 0.10851 0.28416 0.17466 0.28902 C 0.20955 0.28832 0.24445 0.28763 0.27934 0.28694 C 0.28716 0.28671 0.27795 0.28856 0.26355 0.2911 C 0.2573 0.29225 0.25087 0.29295 0.24445 0.29341 C 0.22813 0.29457 0.21164 0.2948 0.19532 0.29549 C 0.1658 0.30035 0.13611 0.30451 0.10643 0.30821 C 0.10157 0.3096 0.09688 0.31121 0.09202 0.31237 C 0.08473 0.31399 0.0698 0.31653 0.0698 0.31653 C 0.0757 0.32162 0.07726 0.32486 0.0842 0.32717 C 0.09514 0.33804 0.10782 0.34451 0.1191 0.35468 C 0.12414 0.35908 0.12848 0.36462 0.13334 0.36948 C 0.13542 0.37156 0.13976 0.37572 0.13976 0.37572 C 0.14931 0.39561 0.16545 0.40971 0.17622 0.42867 C 0.18143 0.43792 0.18646 0.44948 0.19358 0.45619 C 0.19914 0.47538 0.19601 0.46798 0.20157 0.47931 C 0.21129 0.5452 0.19202 0.62867 0.154 0.67376 C 0.13855 0.69225 0.11493 0.69619 0.09532 0.70127 C 0.06355 0.69919 0.0342 0.69688 0.00313 0.69295 C -0.0533 0.66728 -0.09479 0.64254 -0.146 0.59977 C -0.16059 0.58751 -0.17118 0.56624 -0.1842 0.55121 C -0.18576 0.54636 -0.18715 0.54127 -0.18889 0.53642 C -0.1908 0.53133 -0.19357 0.52671 -0.19531 0.52162 C -0.20399 0.49688 -0.20833 0.46844 -0.21111 0.44139 C -0.20937 0.39306 -0.21007 0.35237 -0.19843 0.30821 C -0.1743 0.21688 -0.12031 0.16208 -0.05555 0.12416 C -0.04027 0.11515 -0.02899 0.10636 -0.01267 0.10104 C 0.03438 0.08578 0.08073 0.07838 0.12865 0.07353 C 0.15556 0.07491 0.18021 0.07561 0.20643 0.08185 C 0.2191 0.08925 0.23212 0.09503 0.24445 0.10312 C 0.26389 0.11607 0.28195 0.14474 0.29358 0.16856 C 0.29861 0.19908 0.31233 0.22705 0.3191 0.25734 C 0.31962 0.2622 0.32014 0.26728 0.32066 0.27214 C 0.3217 0.28069 0.32379 0.29757 0.32379 0.29757 C 0.3224 0.32324 0.32466 0.34497 0.31754 0.3674 C 0.30608 0.40347 0.26198 0.44439 0.24132 0.46451 C 0.18664 0.51769 0.12605 0.56162 0.06667 0.60416 C 0.0073 0.64694 -0.05034 0.70613 -0.11753 0.72462 C -0.12604 0.72324 -0.13472 0.72347 -0.14288 0.72023 C -0.14722 0.71838 -0.15399 0.70983 -0.15399 0.70983 C -0.16441 0.68647 -0.15139 0.7133 -0.16979 0.68647 C -0.17604 0.67746 -0.17986 0.66613 -0.18576 0.65688 C -0.19027 0.64971 -0.19531 0.64301 -0.2 0.63584 C -0.20798 0.62335 -0.2158 0.61041 -0.22378 0.59769 C -0.23472 0.58012 -0.24826 0.56555 -0.26024 0.54913 C -0.28698 0.51237 -0.31284 0.47699 -0.33489 0.43491 C -0.33854 0.41804 -0.3467 0.40185 -0.346 0.38428 C -0.34548 0.36948 -0.34583 0.35468 -0.34444 0.33988 C -0.34097 0.30243 -0.31961 0.26289 -0.30468 0.23191 C -0.29062 0.20278 -0.27777 0.17249 -0.25399 0.15584 C -0.2434 0.15653 -0.23281 0.15653 -0.22222 0.15792 C -0.2158 0.15884 -0.20312 0.16231 -0.20312 0.16231 C -0.1559 0.18751 -0.12413 0.20139 -0.08732 0.2511 C -0.07899 0.26243 -0.07413 0.27977 -0.06823 0.29341 C -0.06076 0.33827 -0.06302 0.31838 -0.06024 0.3526 C -0.0618 0.37572 -0.06232 0.39908 -0.0651 0.4222 C -0.06718 0.43954 -0.07517 0.45341 -0.0809 0.46867 C -0.08385 0.4763 -0.08507 0.48509 -0.08889 0.49202 C -0.11909 0.54543 -0.16614 0.5822 -0.2158 0.59145 C -0.22274 0.59006 -0.22986 0.58983 -0.23645 0.58705 C -0.24774 0.58243 -0.25694 0.5674 -0.26354 0.55538 C -0.28211 0.52185 -0.3 0.48832 -0.30798 0.44763 C -0.31284 0.39422 -0.30034 0.33804 -0.31267 0.28694 C -0.31215 0.28486 -0.31232 0.28231 -0.31111 0.28069 C -0.30989 0.27908 -0.30781 0.27977 -0.30642 0.27861 C -0.29305 0.26821 -0.30607 0.27491 -0.29531 0.27006 C -0.28854 0.2615 -0.28055 0.25619 -0.27309 0.24902 C -0.24913 0.22613 -0.22413 0.20948 -0.19687 0.19399 C -0.19132 0.19075 -0.18507 0.19006 -0.17934 0.18751 C -0.16614 0.1889 -0.15277 0.18913 -0.13975 0.19191 C -0.1309 0.19376 -0.12291 0.19977 -0.11423 0.20231 C -0.10277 0.21017 -0.09357 0.21434 -0.0809 0.21711 C -0.07395 0.21572 -0.06701 0.21503 -0.06024 0.21295 C -0.05139 0.21041 -0.04583 0.20116 -0.03802 0.19607 C -0.03541 0.1926 -0.03316 0.18844 -0.0302 0.18543 C -0.02882 0.18405 -0.02691 0.18428 -0.02534 0.18335 C -0.02361 0.1822 -0.02205 0.18081 -0.02066 0.17919 C -0.01527 0.17295 -0.00972 0.16671 -0.00468 0.16023 C -0.00972 0.12948 -0.03177 0.12208 -0.05086 0.10936 C -0.06076 0.10266 -0.06823 0.09572 -0.07777 0.08832 C -0.08107 0.08139 -0.08611 0.07653 -0.08889 0.06913 C -0.09253 0.05942 -0.0967 0.04948 -0.1 0.03954 C -0.10139 0.03561 -0.10156 0.03098 -0.10312 0.02705 C -0.10434 0.02382 -0.10642 0.0215 -0.10798 0.0185 C -0.12413 -0.01272 -0.13715 -0.03491 -0.1651 -0.04694 C -0.1783 -0.04116 -0.18524 -0.02983 -0.19357 -0.01526 C -0.21614 0.02451 -0.20816 0.00786 -0.22378 0.05434 C -0.22586 0.06058 -0.22951 0.06543 -0.23177 0.07145 C -0.23472 0.07931 -0.23784 0.09434 -0.23975 0.10312 C -0.24114 0.11769 -0.24323 0.13041 -0.23975 0.14543 C -0.23593 0.16254 -0.2217 0.1778 -0.21267 0.18983 C -0.17951 0.23399 -0.13593 0.24809 -0.09045 0.25734 C -0.07934 0.25665 -0.02239 0.25619 0.00157 0.24902 C 0.03282 0.23977 0.05868 0.21757 0.08733 0.20023 C 0.10105 0.18197 0.11875 0.16832 0.12865 0.14543 C 0.1375 0.12509 0.13733 0.1059 0.15087 0.08624 C 0.16216 0.07006 0.16268 0.06821 0.17466 0.05873 C 0.18195 0.05295 0.19028 0.04925 0.19688 0.04185 C 0.2283 0.00694 0.18646 0.05179 0.2158 0.02474 C 0.2198 0.02104 0.22292 0.01595 0.22691 0.01225 C 0.23542 0.00416 0.23889 0.00393 0.24757 -0.00254 C 0.26077 -0.01225 0.27032 -0.01988 0.2842 -0.0259 C 0.2875 -0.01272 0.2757 0.00278 0.26823 0.00994 C 0.22448 0.05225 0.23282 0.03954 0.18889 0.06705 C 0.00364999999999999 0.18358 0.16632 0.08832 -0.03489 0.20231 C -0.05659 0.21457 -0.07725 0.22867 -0.09531 0.24902 C -0.1026 0.25734 -0.10902 0.26728 -0.1158 0.2763 C -0.11684 0.27769 -0.11909 0.28069 -0.11909 0.28069 C -0.11857 0.28278 -0.11909 0.28647 -0.11753 0.28694 C -0.11527 0.28763 -0.11336 0.28393 -0.11111 0.28278 C -0.10017 0.27746 -0.08576 0.27283 -0.07465 0.27006 C -0.01562 0.25549 0.04497 0.24671 0.10469 0.24046 C 0.14809 0.23098 0.19098 0.2222 0.2349 0.21942 C 0.28559 0.22127 0.2842 0.20254 0.30157 0.23422 C 0.30643 0.25364 0.31632 0.26728 0.32535 0.28278 C 0.32726 0.28601 0.3283 0.29017 0.33021 0.29341 C 0.33611 0.30335 0.34219 0.30728 0.34914 0.31653 C 0.35157 0.31977 0.35295 0.32439 0.35556 0.32717 C 0.35886 0.33064 0.36302 0.33249 0.36667 0.33549 C 0.36997 0.33827 0.37327 0.34081 0.37622 0.34405 C 0.39289 0.36208 0.37101 0.34312 0.39045 0.36093 C 0.39705 0.36694 0.40452 0.37156 0.41111 0.3778 C 0.41511 0.38173 0.41806 0.38682 0.42223 0.39052 C 0.429 0.40439 0.41893 0.41642 0.40955 0.4222 C 0.37986 0.44069 0.33733 0.4511 0.30643 0.45619 C 0.24584 0.46636 0.18455 0.46775 0.12379 0.47723 C 0.00139 0.49619 -0.12031 0.51561 -0.24132 0.54497 C -0.24652 0.54428 -0.25225 0.54567 -0.25711 0.54266 C -0.25868 0.54173 -0.25607 0.5385 -0.25555 0.53642 C -0.2526 0.52231 -0.24982 0.52069 -0.24288 0.5089 C -0.22413 0.47723 -0.2052 0.44509 -0.18576 0.41387 C -0.16267 0.37665 -0.15399 0.36994 -0.13333 0.31861 C -0.12656 0.30197 -0.12118 0.28439 -0.11423 0.26798 C -0.11145 0.26127 -0.10729 0.25572 -0.10468 0.24902 C -0.09861 0.23283 -0.09461 0.19607 -0.08246 0.18335 C -0.06319 0.16324 -0.03524 0.15838 -0.01111 0.15584 C 0.01111 0.15353 0.05556 0.1496 0.05556 0.1496 C 0.16945 0.15191 0.12865 0.13988 0.18577 0.16439 C 0.18907 0.17341 0.19063 0.17988 0.19202 0.18983 C 0.18611 0.24231 0.17952 0.28856 0.15712 0.33341 C 0.14566 0.35607 0.13959 0.37387 0.12379 0.38844 C 0.11025 0.40093 0.0948 0.40763 0.07934 0.41387 C 0.06615 0.41318 0.05278 0.4141 0.03976 0.41179 C 0.03785 0.41133 0.04271 0.40856 0.04445 0.4074 C 0.04809 0.40509 0.05174 0.40278 0.05556 0.40116 C 0.09844 0.38173 0.08351 0.38543 0.11754 0.3822 C 0.15764 0.37434 0.19757 0.36902 0.23802 0.36509 C 0.24914 0.36578 0.26042 0.36439 0.27136 0.3674 C 0.27466 0.36832 0.26528 0.37064 0.26198 0.37156 C 0.25469 0.37364 0.23125 0.37526 0.22691 0.37572 C 0.0915 0.37434 -0.04392 0.37387 -0.17934 0.37156 C -0.23402 0.37064 -0.22361 0.37295 -0.25086 0.36509 C -0.23038 0.32116 -0.16041 0.30728 -0.12378 0.29757 C -0.03455 0.27399 0.05417 0.2511 0.14445 0.2363 C 0.12969 0.25225 0.11945 0.2541 0.1 0.25734 C 0.03125 0.26844 0.05052 0.26613 0.00643 0.27006 C -0.00052 0.27145 -0.00729 0.27283 -0.01423 0.27422 C -0.0184 0.27491 -0.02309 0.27884 -0.02691 0.2763 C -0.02916 0.27468 -0.02291 0.27168 -0.02066 0.27006 C -0.01389 0.26567 0.0033 0.25919 0.00955 0.25734 C 0.0448 0.24671 0.07379 0.2437 0.10955 0.24046 C 0.12969 0.24185 0.14983 0.24093 0.1698 0.24462 C 0.17205 0.24509 0.16684 0.24902 0.16511 0.2511 C 0.1625 0.2541 0.16007 0.25734 0.15712 0.25942 C 0.14983 0.26428 0.12136 0.27376 0.11754 0.27422 C 0.08733 0.27884 0.05712 0.27792 0.02691 0.28278 C 0.04653 0.2659 0.06736 0.27006 0.09045 0.27006 E">
                                      <p:cBhvr>
                                        <p:cTn id="7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N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4956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3657600"/>
            <a:ext cx="2362320" cy="914400"/>
          </a:xfrm>
          <a:prstGeom prst="wedgeRoundRectCallout">
            <a:avLst>
              <a:gd name="adj1" fmla="val -43518"/>
              <a:gd name="adj2" fmla="val 66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eee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523880"/>
            <a:ext cx="7696080" cy="4267440"/>
          </a:xfrm>
          <a:prstGeom prst="smileyFace">
            <a:avLst>
              <a:gd name="adj" fmla="val -4652"/>
            </a:avLst>
          </a:prstGeom>
          <a:solidFill>
            <a:srgbClr val="808080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590920"/>
            <a:ext cx="2438640" cy="1981080"/>
          </a:xfrm>
          <a:prstGeom prst="wedgeRectCallout">
            <a:avLst>
              <a:gd name="adj1" fmla="val -58398"/>
              <a:gd name="adj2" fmla="val 70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ease 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13Z</dcterms:created>
  <dc:creator>CGB</dc:creator>
  <dc:description/>
  <dc:language>en-US</dc:language>
  <cp:lastModifiedBy>CGB</cp:lastModifiedBy>
  <dcterms:modified xsi:type="dcterms:W3CDTF">2008-06-10T14:13:33Z</dcterms:modified>
  <cp:revision>4</cp:revision>
  <dc:subject/>
  <dc:title>The Cat And Mouse Game</dc:title>
</cp:coreProperties>
</file>